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A0C9-6C31-484E-A8A6-CFE34001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11C-3766-4261-8C2A-64DC4C21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C52-BBE9-4158-BFD6-5375C0D9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8C2-6176-4301-80B4-ED88AA08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ED3C-EED9-41B2-8E0A-B892F7F5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32D6-A790-4E1A-95A5-14B30D3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5497-83F3-4589-A40C-C0467B88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4CB-8630-47EF-8829-119371BF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F9BE-2706-4FE6-8909-1A2F66FC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B091-7988-4C1B-810E-46FBCDC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322-4EB6-42DD-A887-78DD35EF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322-E476-4B98-A271-E6C5BF7A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FF57-1231-4E20-8B63-9BD8453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436B-E1DC-45F6-9713-954409DC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7B50-D833-4973-BD78-1E4C192D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B73-6F9F-4F78-BB31-35C6E4B9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11B0-BB15-4A9C-A3AA-AE764B26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36BE-6160-4732-9BC0-7F5DF6F0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C7541-7EB9-430A-BB03-D7657C6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B3B3-CEA2-46DB-8D7E-B96F47FB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875C-1C9E-4B3B-AAD4-3E9740EC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D8F9-9236-4A61-8824-880ACD9E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D71-C6F0-44D5-84C2-A537854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B9A3-2A2E-4281-8F3A-1A209704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3CF9-1770-4617-B9A6-2472229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7480-0189-47E9-9F9B-4C1660A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3C3F-7E52-4C98-A750-E75E4714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EC0A-52CB-4467-90EF-5EC0C119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4A88-EB8E-4A9E-B7EF-DB259301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D3E6-9732-4C13-8DFF-4878BF15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171D-A226-472F-822C-B2378B6A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23DA-66E0-41B5-9327-BE5F51C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4DD5F-4EE8-4472-B6C4-2D814B26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A0E-DDA0-4393-923C-98576F7D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E1F66-9C32-4515-8EDC-8A3E5A38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F61D-0478-4C74-B90C-4490E286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81B2D-60DA-4141-8165-C52AA575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F6A4F-DB47-432E-B620-A289A216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03EC8-F1D4-4C7E-B3A2-074378EA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F6DE9-E550-47EC-8450-CF34D6F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EC0A1-9926-48A9-9A3D-DB801667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1ABB7-FC42-4F0C-981A-EB07EC26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04E6-DFC7-4C79-A1BF-55893F14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681-0869-42D5-8961-BCF2B485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3B3-0ABC-49C8-8B79-0E79B46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3E7-5738-4CC5-99AC-1CABC964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19C-CFA7-4B3E-BD19-C58854B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C6B-2302-45C2-8221-1647670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6A01-138D-4786-8099-195DBBE540A1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2EF-69AE-4BCF-9C9A-3EAF69661ABE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642E-3BDA-4B1E-8336-FEF33DDB1A6D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7f7f7f"/>
                </a:solidFill>
                <a:latin typeface="Arial"/>
              </a:rPr>
              <a:t>www.kala.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EFA0-945C-4088-8F8A-05FCFB0F3FF2}" type="slidenum">
              <a:rPr b="1" lang="en-GB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mailto:info@kala.ie" TargetMode="External"/><Relationship Id="rId3" Type="http://schemas.openxmlformats.org/officeDocument/2006/relationships/hyperlink" Target="http://www.kala.ie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78920" y="1628280"/>
            <a:ext cx="8713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Lucida Sans Unicode"/>
              </a:rPr>
              <a:t>20</a:t>
            </a:r>
            <a:r>
              <a:rPr b="0" lang="en-GB" sz="2200" spc="-1" strike="noStrike" baseline="30000">
                <a:solidFill>
                  <a:srgbClr val="404040"/>
                </a:solidFill>
                <a:latin typeface="Lucida Sans Unicode"/>
              </a:rPr>
              <a:t>th</a:t>
            </a:r>
            <a:r>
              <a:rPr b="0" lang="en-GB" sz="2200" spc="-1" strike="noStrike">
                <a:solidFill>
                  <a:srgbClr val="404040"/>
                </a:solidFill>
                <a:latin typeface="Lucida Sans Unicode"/>
              </a:rPr>
              <a:t> March 2013 – Association of Irish Risk Managem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Mitigating Risk through effectiv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Grievance &amp; Disciplinary Procedure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Lucida Sans Unicode"/>
              </a:rPr>
              <a:t>Gillian Knight, FCIPD, MSc gillian@kala.i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Lucida Sans Unicode"/>
              </a:rPr>
              <a:t>Managing Director, Kala Management Solutions Ltd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r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Picture 2" descr="Kala_logo_2.jpg"/>
          <p:cNvPicPr/>
          <p:nvPr/>
        </p:nvPicPr>
        <p:blipFill>
          <a:blip r:embed="rId1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Kala_logo_3.jpg"/>
          <p:cNvPicPr/>
          <p:nvPr/>
        </p:nvPicPr>
        <p:blipFill>
          <a:blip r:embed="rId2"/>
          <a:stretch/>
        </p:blipFill>
        <p:spPr>
          <a:xfrm>
            <a:off x="5292720" y="2637000"/>
            <a:ext cx="33717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itle 2" descr=""/>
          <p:cNvPicPr/>
          <p:nvPr/>
        </p:nvPicPr>
        <p:blipFill>
          <a:blip r:embed="rId1"/>
          <a:stretch/>
        </p:blipFill>
        <p:spPr>
          <a:xfrm>
            <a:off x="1762200" y="471816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1115640" y="1341360"/>
            <a:ext cx="777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eview procedure regularly – keep it curren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nsure all staff are trained and retrained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onduct exit interviews for feedback on how staff view the syst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urvey all staff and management to ensure system is effectiv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Hire a professional for initial set up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2" descr=""/>
          <p:cNvPicPr/>
          <p:nvPr/>
        </p:nvPicPr>
        <p:blipFill>
          <a:blip r:embed="rId1"/>
          <a:stretch/>
        </p:blipFill>
        <p:spPr>
          <a:xfrm>
            <a:off x="1042920" y="4071960"/>
            <a:ext cx="6778800" cy="1500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1142640" y="731520"/>
            <a:ext cx="76057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ank you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r further details please contact </a:t>
            </a: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2"/>
              </a:rPr>
              <a:t>info@kala.ie</a:t>
            </a:r>
            <a:r>
              <a:rPr b="0" lang="en-US" sz="22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or cal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01 406 14 75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Visit our website </a:t>
            </a:r>
            <a:r>
              <a:rPr b="0" lang="en-US" sz="2200" spc="-1" strike="noStrike" u="sng">
                <a:solidFill>
                  <a:srgbClr val="56c7aa"/>
                </a:solidFill>
                <a:uFillTx/>
                <a:latin typeface="Trebuchet MS"/>
                <a:hlinkClick r:id="rId3"/>
              </a:rPr>
              <a:t>www.kala.ie</a:t>
            </a: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 for more HRM management articles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5" descr="Kala_logo_4.jpg"/>
          <p:cNvPicPr/>
          <p:nvPr/>
        </p:nvPicPr>
        <p:blipFill>
          <a:blip r:embed="rId4"/>
          <a:stretch/>
        </p:blipFill>
        <p:spPr>
          <a:xfrm>
            <a:off x="1332000" y="3860640"/>
            <a:ext cx="3916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itle 2" descr=""/>
          <p:cNvPicPr/>
          <p:nvPr/>
        </p:nvPicPr>
        <p:blipFill>
          <a:blip r:embed="rId1"/>
          <a:stretch/>
        </p:blipFill>
        <p:spPr>
          <a:xfrm>
            <a:off x="1762200" y="4863960"/>
            <a:ext cx="6778440" cy="1500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042920" y="1628280"/>
            <a:ext cx="70581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y have a Grievance and Disciplinary procedure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A typical procedure for grievance &amp; disciplinary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What is gross misconduct?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o what is best practice?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mployee Rights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Advantages of linking Disciplinary Procedures to Performance Management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ome general tips</a:t>
            </a:r>
            <a:r>
              <a:rPr b="0" lang="en-GB" sz="22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Q&amp;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Title 2" descr=""/>
          <p:cNvPicPr/>
          <p:nvPr/>
        </p:nvPicPr>
        <p:blipFill>
          <a:blip r:embed="rId1"/>
          <a:stretch/>
        </p:blipFill>
        <p:spPr>
          <a:xfrm>
            <a:off x="1042920" y="4078440"/>
            <a:ext cx="7997760" cy="2792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Ensure fairness and consistenc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Save employers time and reduce risk of employee dispute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Legal obligation to provide staff with written procedures before dismiss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Provides employers an opportunity to manage disputes internally directly with staff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an avoid issues escalating unnecessarily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ourts and Employment Tribunals will be influenced when deciding on a dispute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Good practice and gives a good impression of the company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itle 2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949800" cy="2792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1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2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tage 3 – one wee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External – Rights Commissioner etc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Title 2" descr=""/>
          <p:cNvPicPr/>
          <p:nvPr/>
        </p:nvPicPr>
        <p:blipFill>
          <a:blip r:embed="rId1"/>
          <a:stretch/>
        </p:blipFill>
        <p:spPr>
          <a:xfrm>
            <a:off x="901800" y="4078440"/>
            <a:ext cx="8145360" cy="2090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rebuchet MS"/>
              </a:rPr>
              <a:t>Pre Disciplinary – Informal discussio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tage 1 – Formal Verbal Warning – 3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tage 2 – First Written Warning – 6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Trebuchet MS"/>
              </a:rPr>
              <a:t>Stage 3 – Final Written Warning – 12 month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040"/>
                </a:solidFill>
                <a:latin typeface="Trebuchet MS"/>
              </a:rPr>
              <a:t>Stage 4 – Dismissal following a series of warning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Given due notice of termination of employment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Terminated with pay in lieu of noti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346680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404040"/>
                </a:solidFill>
                <a:latin typeface="Trebuchet MS"/>
              </a:rPr>
              <a:t>Transferred to other duties including demotion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404040"/>
                </a:solidFill>
                <a:latin typeface="Trebuchet MS"/>
              </a:rPr>
              <a:t>Summary Dismissal – Gross Misconduc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Title 2" descr=""/>
          <p:cNvPicPr/>
          <p:nvPr/>
        </p:nvPicPr>
        <p:blipFill>
          <a:blip r:embed="rId1"/>
          <a:stretch/>
        </p:blipFill>
        <p:spPr>
          <a:xfrm>
            <a:off x="974880" y="4863960"/>
            <a:ext cx="8254800" cy="1500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826560" y="764640"/>
            <a:ext cx="7705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Theft, fraud or deliberate falsification of record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Violence, threats of violence, intimidation or fighting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Sexual, racial or other harassmen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Unauthorised use or disclosure of confidential informatio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ttending work under the influence of alcohol or non-medically prescribed drug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ny action that may bring the Organisation into disrepute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Serious acts of insubordination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Any criminal offence that may adversely affect the interest of the Organisation or its employees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“</a:t>
            </a:r>
            <a:r>
              <a:rPr b="0" lang="en-IE" sz="1900" spc="-1" strike="noStrike">
                <a:solidFill>
                  <a:srgbClr val="404040"/>
                </a:solidFill>
                <a:latin typeface="Trebuchet MS"/>
              </a:rPr>
              <a:t>These areas however, are not exclusive and instances of a similar nature will also be dealt with in the same way”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Title 2" descr=""/>
          <p:cNvPicPr/>
          <p:nvPr/>
        </p:nvPicPr>
        <p:blipFill>
          <a:blip r:embed="rId1"/>
          <a:stretch/>
        </p:blipFill>
        <p:spPr>
          <a:xfrm>
            <a:off x="914400" y="4863960"/>
            <a:ext cx="7881840" cy="1500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611280" y="476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Provided in written forma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Clear, reasonable and rationa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an informal stage firs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an internal appeals mechanism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ave timescales specified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Broken down in stages – progressive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Trained and understood by al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Included in induction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Grievance Procedure should be similar length as Disciplinary Procedure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Highlight examples of gross misconduct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Be linked to all other policies and procedures – including performance manageme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2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404040"/>
                </a:solidFill>
                <a:latin typeface="Trebuchet MS"/>
              </a:rPr>
              <a:t>LRC code of conduct –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Trebuchet MS"/>
              </a:rPr>
              <a:t>http://www.lrc.ie/documents/publications/codes/5GrievanceDisciplinary.pd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Title 2" descr=""/>
          <p:cNvPicPr/>
          <p:nvPr/>
        </p:nvPicPr>
        <p:blipFill>
          <a:blip r:embed="rId1"/>
          <a:stretch/>
        </p:blipFill>
        <p:spPr>
          <a:xfrm>
            <a:off x="1835280" y="5425920"/>
            <a:ext cx="6778440" cy="1492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684000" y="1125360"/>
            <a:ext cx="81356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be informed of the complaint against them &amp; be given sufficient opportunity to present their case &amp; call witnesses to support their case, as appropriat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be accompanied to disciplinary meetings by a colleague or friend to record the proceedings on their behalf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53880">
              <a:spcBef>
                <a:spcPts val="37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Trebuchet MS"/>
              </a:rPr>
              <a:t>(Note – Employee representative includes a colleague of the employee’s choice and a registered TU but not any other person or body unconnected with the company)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normally not be dismissed for a first offence, other than gross misconduc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to written confirmation of meetings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Right of appeal, refer the matter to a Rights Commissioner once internal procedure has been exhausted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Picture 4" descr="Kala_logo_2.jpg"/>
          <p:cNvPicPr/>
          <p:nvPr/>
        </p:nvPicPr>
        <p:blipFill>
          <a:blip r:embed="rId2"/>
          <a:stretch/>
        </p:blipFill>
        <p:spPr>
          <a:xfrm>
            <a:off x="6778800" y="0"/>
            <a:ext cx="25113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12745"/>
                </a:solidFill>
                <a:latin typeface="Arial"/>
              </a:rPr>
              <a:t>www.kala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Title 2" descr=""/>
          <p:cNvPicPr/>
          <p:nvPr/>
        </p:nvPicPr>
        <p:blipFill>
          <a:blip r:embed="rId1"/>
          <a:stretch/>
        </p:blipFill>
        <p:spPr>
          <a:xfrm>
            <a:off x="-12600" y="4432320"/>
            <a:ext cx="9285120" cy="2090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115640" y="1196640"/>
            <a:ext cx="69562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motes a culture of high perform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ighlights non-tolerance for underperformanc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rovides a procedure for managing employee out of the busines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Reduces risk of Unfair Dismissal Claim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Employees are clear on what is expected of th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5" descr="Kala_logo_2.jpg"/>
          <p:cNvPicPr/>
          <p:nvPr/>
        </p:nvPicPr>
        <p:blipFill>
          <a:blip r:embed="rId2"/>
          <a:stretch/>
        </p:blipFill>
        <p:spPr>
          <a:xfrm>
            <a:off x="6778800" y="133200"/>
            <a:ext cx="25113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3:35:17Z</dcterms:created>
  <dc:creator>Maeve Caraher</dc:creator>
  <dc:description/>
  <dc:language>en-US</dc:language>
  <cp:lastModifiedBy>Ian Davis</cp:lastModifiedBy>
  <cp:lastPrinted>2013-03-20T08:51:54Z</cp:lastPrinted>
  <dcterms:modified xsi:type="dcterms:W3CDTF">2013-03-20T11:11:15Z</dcterms:modified>
  <cp:revision>26</cp:revision>
  <dc:subject/>
  <dc:title>BSc in Sports Management 3rd Year HRM Lecture 10:Workplace Disputes</dc:title>
</cp:coreProperties>
</file>