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BF8-73AA-4186-9DDF-693CE0E8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C38-7441-4F8E-8DE1-A534C828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7F1-157D-40E1-93A7-F3FC0BD5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E36-8A78-4204-8655-007050DE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ADFA-14A7-4186-BE60-9BA28013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EFAF-00F6-4F5B-BBF3-44B76822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6BBA-DFB7-400C-AC3F-52E2AE2A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1B2F-6C77-45D9-9C2A-05B3F6B8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6247-39AB-4305-8AE6-48020E72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7306-6800-4BD5-9246-F9EEF799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BF34-21B8-4131-95C7-745ECF72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B58-1D94-40C4-AD25-9C793930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9DB5-0D04-464F-A88C-EE27ADA3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F0E4-1556-4226-A37A-AEF6573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FEFA-147E-45E5-B141-044E293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08CF-B97F-4195-9C2B-468CE6DE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D5A3-F402-4B4C-B7FC-BB2D23E8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D6EF-7A9C-4444-A1B5-78E18B64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C64A-2D71-4176-AA45-4BF241EB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E9EA-8272-4FF1-90B6-4CBF1206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069E4-6ED1-476F-BB29-8ED06C1F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4554-52D7-488B-85B4-EFA10D52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CB9-FED4-4419-9702-7D2BBB6F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41BB-436C-415F-88F9-519F1F8D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B24E8-4ACC-4EE2-9591-249B0ED2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8B50-1B66-4B91-A420-EF350D3C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2E44-5E87-4F60-83EA-4A7BAB88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46A8-86D5-48E8-87B5-29C5A9A7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191B-DB12-4952-83F4-D60470E6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7997-BE6E-4424-938C-26D1A203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1D5FC-621E-4586-AF41-EA58C189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735FE-C0D6-4215-B85C-94DA0E0C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6F4D1-3564-45C7-8CBD-A425B98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9B4-9D6A-4139-91C2-AD360109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E3EF7-F0A4-42C2-BF3D-BDC02806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6A9AB-27F3-4044-9109-E56800CA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44402-A0CF-4621-84D0-79706482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DB15-FC47-4108-9B88-488EDDDF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502D-B7AB-4323-94F9-58C74D54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F7721-5CF1-4672-A611-456BECE1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76A5-1F82-4E2D-B6A1-5A87C790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E7A62-F664-4A53-8400-89E3FF11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2443-6F14-4E10-BC6A-EBEA8825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6BE-DDD4-49C6-8D0A-55801A51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264-C932-4AC9-9FD8-E81DAC6E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430-03EE-4C1B-ACA1-1826BF1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DAB-A7FF-40B8-966A-669549CB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24F-C201-40B4-9058-A6632900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Arial"/>
              </a:rPr>
              <a:t>www.kala.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1741-FAC7-4854-B0BE-583A51011F56}" type="slidenum">
              <a:rPr b="1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Arial"/>
              </a:rPr>
              <a:t>www.kala.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D00E-7957-4CF7-8491-F3A867AEB6B8}" type="slidenum">
              <a:rPr b="1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Arial"/>
              </a:rPr>
              <a:t>www.kala.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9B94-881D-44EE-90E4-BDB236CA0DC2}" type="slidenum">
              <a:rPr b="1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Arial"/>
              </a:rPr>
              <a:t>www.kala.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AA5C-35D1-44A6-86BC-9B15CB3592F0}" type="slidenum">
              <a:rPr b="1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mailto:info@kala.ie" TargetMode="External"/><Relationship Id="rId3" Type="http://schemas.openxmlformats.org/officeDocument/2006/relationships/hyperlink" Target="http://www.kala.ie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78920" y="1628280"/>
            <a:ext cx="8713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Lucida Sans Unicode"/>
              </a:rPr>
              <a:t>20</a:t>
            </a:r>
            <a:r>
              <a:rPr b="0" lang="en-GB" sz="2200" spc="-1" strike="noStrike" baseline="30000">
                <a:solidFill>
                  <a:srgbClr val="404040"/>
                </a:solidFill>
                <a:latin typeface="Lucida Sans Unicode"/>
              </a:rPr>
              <a:t>th</a:t>
            </a:r>
            <a:r>
              <a:rPr b="0" lang="en-GB" sz="2200" spc="-1" strike="noStrike">
                <a:solidFill>
                  <a:srgbClr val="404040"/>
                </a:solidFill>
                <a:latin typeface="Lucida Sans Unicode"/>
              </a:rPr>
              <a:t> March 2013 – Association of Irish Risk Managem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itigating Risk through effectiv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rievance &amp; Disciplinary Procedur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Lucida Sans Unicode"/>
              </a:rPr>
              <a:t>Gillian Knight, FCIPD, MSc gillian@kala.i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Lucida Sans Unicode"/>
              </a:rPr>
              <a:t>Managing Director, Kala Management Solutions Ltd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Picture 2" descr="Kala_logo_2.jpg"/>
          <p:cNvPicPr/>
          <p:nvPr/>
        </p:nvPicPr>
        <p:blipFill>
          <a:blip r:embed="rId1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Kala_logo_3.jpg"/>
          <p:cNvPicPr/>
          <p:nvPr/>
        </p:nvPicPr>
        <p:blipFill>
          <a:blip r:embed="rId2"/>
          <a:stretch/>
        </p:blipFill>
        <p:spPr>
          <a:xfrm>
            <a:off x="5292720" y="2637000"/>
            <a:ext cx="33717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Title 2" descr=""/>
          <p:cNvPicPr/>
          <p:nvPr/>
        </p:nvPicPr>
        <p:blipFill>
          <a:blip r:embed="rId1"/>
          <a:stretch/>
        </p:blipFill>
        <p:spPr>
          <a:xfrm>
            <a:off x="1762200" y="471816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1115640" y="1341360"/>
            <a:ext cx="7777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view procedure regularly – keep it curr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nsure all staff are trained and retraine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nduct exit interviews for feedback on how staff view the syst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urvey all staff and management to ensure system is effectiv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ire a professional for initial set u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2" descr=""/>
          <p:cNvPicPr/>
          <p:nvPr/>
        </p:nvPicPr>
        <p:blipFill>
          <a:blip r:embed="rId1"/>
          <a:stretch/>
        </p:blipFill>
        <p:spPr>
          <a:xfrm>
            <a:off x="1042920" y="4071960"/>
            <a:ext cx="6778800" cy="1500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142640" y="731520"/>
            <a:ext cx="760572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ank you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r further details please contact </a:t>
            </a: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hlinkClick r:id="rId2"/>
              </a:rPr>
              <a:t>info@kala.ie</a:t>
            </a: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or cal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01 406 14 75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isit our website </a:t>
            </a: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www.kala.i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for more HRM management article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5" name="Picture 5" descr="Kala_logo_4.jpg"/>
          <p:cNvPicPr/>
          <p:nvPr/>
        </p:nvPicPr>
        <p:blipFill>
          <a:blip r:embed="rId4"/>
          <a:stretch/>
        </p:blipFill>
        <p:spPr>
          <a:xfrm>
            <a:off x="1332000" y="3860640"/>
            <a:ext cx="3916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itle 2" descr=""/>
          <p:cNvPicPr/>
          <p:nvPr/>
        </p:nvPicPr>
        <p:blipFill>
          <a:blip r:embed="rId1"/>
          <a:stretch/>
        </p:blipFill>
        <p:spPr>
          <a:xfrm>
            <a:off x="1762200" y="4863960"/>
            <a:ext cx="6778440" cy="1500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042920" y="1628280"/>
            <a:ext cx="70581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y have a Grievance and Disciplinary procedur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A typical procedure for grievance &amp; disciplinary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at is gross misconduct?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o what is best practice?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mployee Rights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dvantages of linking Disciplinary Procedures to Performance Management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ome general tips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Q&amp;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Title 2" descr=""/>
          <p:cNvPicPr/>
          <p:nvPr/>
        </p:nvPicPr>
        <p:blipFill>
          <a:blip r:embed="rId1"/>
          <a:stretch/>
        </p:blipFill>
        <p:spPr>
          <a:xfrm>
            <a:off x="1042920" y="4078440"/>
            <a:ext cx="7997760" cy="2792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Ensure fairness and consistency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ave employers time and reduce risk of employee dispute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Legal obligation to provide staff with written procedures before dismissa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Provides employers an opportunity to manage disputes internally directly with staff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an avoid issues escalating unnecessarily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ourts and Employment Tribunals will be influenced when deciding on a dispute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Good practice and gives a good impression of the company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Tit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49800" cy="2792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tage 1 – one wee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tage 2 – one wee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tage 3 – one wee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xternal – Rights Commissioner et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Title 2" descr=""/>
          <p:cNvPicPr/>
          <p:nvPr/>
        </p:nvPicPr>
        <p:blipFill>
          <a:blip r:embed="rId1"/>
          <a:stretch/>
        </p:blipFill>
        <p:spPr>
          <a:xfrm>
            <a:off x="901800" y="4078440"/>
            <a:ext cx="8145360" cy="2090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rebuchet MS"/>
              </a:rPr>
              <a:t>Pre Disciplinary – Informal discussion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404040"/>
                </a:solidFill>
                <a:latin typeface="Trebuchet MS"/>
              </a:rPr>
              <a:t>Stage 1 – Formal Verbal Warning – 3 month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404040"/>
                </a:solidFill>
                <a:latin typeface="Trebuchet MS"/>
              </a:rPr>
              <a:t>Stage 2 – First Written Warning – 6 month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Trebuchet MS"/>
              </a:rPr>
              <a:t>Stage 3 – Final Written Warning – 12 month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Trebuchet MS"/>
              </a:rPr>
              <a:t>Stage 4 – Dismissal following a series of warning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3466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404040"/>
                </a:solidFill>
                <a:latin typeface="Trebuchet MS"/>
              </a:rPr>
              <a:t>Given due notice of termination of employmen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3466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404040"/>
                </a:solidFill>
                <a:latin typeface="Trebuchet MS"/>
              </a:rPr>
              <a:t>Terminated with pay in lieu of noti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3466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404040"/>
                </a:solidFill>
                <a:latin typeface="Trebuchet MS"/>
              </a:rPr>
              <a:t>Transferred to other duties including demotio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404040"/>
                </a:solidFill>
                <a:latin typeface="Trebuchet MS"/>
              </a:rPr>
              <a:t>Summary Dismissal – Gross Misconduc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Title 2" descr=""/>
          <p:cNvPicPr/>
          <p:nvPr/>
        </p:nvPicPr>
        <p:blipFill>
          <a:blip r:embed="rId1"/>
          <a:stretch/>
        </p:blipFill>
        <p:spPr>
          <a:xfrm>
            <a:off x="974880" y="4863960"/>
            <a:ext cx="8254800" cy="1500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826560" y="764640"/>
            <a:ext cx="7705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Theft, fraud or deliberate falsification of record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Violence, threats of violence, intimidation or fighting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Sexual, racial or other harassmen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Unauthorised use or disclosure of confidential informatio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Attending work under the influence of alcohol or non-medically prescribed drug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Any action that may bring the Organisation into disrepute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Serious acts of insubordinatio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Any criminal offence that may adversely affect the interest of the Organisation or its employee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These areas however, are not exclusive and instances of a similar nature will also be dealt with in the same way”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Title 2" descr=""/>
          <p:cNvPicPr/>
          <p:nvPr/>
        </p:nvPicPr>
        <p:blipFill>
          <a:blip r:embed="rId1"/>
          <a:stretch/>
        </p:blipFill>
        <p:spPr>
          <a:xfrm>
            <a:off x="914400" y="4863960"/>
            <a:ext cx="7881840" cy="1500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611280" y="476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Provided in written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ear, reasonable and rationa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ave an informal stage firs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ave an internal appeals mechanism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ave timescales specifie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Broken down in stages – progressive procedur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rained and understood by al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Included in induction procedur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Grievance Procedure should be similar length as Disciplinary Procedur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ighlight examples of gross misconduc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Be linked to all other policies and procedures – including performance management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404040"/>
                </a:solidFill>
                <a:latin typeface="Trebuchet MS"/>
              </a:rPr>
              <a:t>LRC code of conduct –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Trebuchet MS"/>
              </a:rPr>
              <a:t>http://www.lrc.ie/documents/publications/codes/5GrievanceDisciplinary.pdf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Title 2" descr=""/>
          <p:cNvPicPr/>
          <p:nvPr/>
        </p:nvPicPr>
        <p:blipFill>
          <a:blip r:embed="rId1"/>
          <a:stretch/>
        </p:blipFill>
        <p:spPr>
          <a:xfrm>
            <a:off x="1835280" y="5425920"/>
            <a:ext cx="6778440" cy="1492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684000" y="1125360"/>
            <a:ext cx="81356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ight to be informed of the complaint against them &amp; be given sufficient opportunity to present their case &amp; call witnesses to support their case, as appropria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ight to be accompanied to disciplinary meetings by a colleague or friend to record the proceedings on their behal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53880"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Trebuchet MS"/>
              </a:rPr>
              <a:t>(Note – Employee representative includes a colleague of the employee’s choice and a registered TU but not any other person or body unconnected with the company)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ight to normally not be dismissed for a first offence, other than gross misconduc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ight to written confirmation of meeting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ight of appeal, refer the matter to a Rights Commissioner once internal procedure has been exhauste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0"/>
            <a:ext cx="2511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Title 2" descr=""/>
          <p:cNvPicPr/>
          <p:nvPr/>
        </p:nvPicPr>
        <p:blipFill>
          <a:blip r:embed="rId1"/>
          <a:stretch/>
        </p:blipFill>
        <p:spPr>
          <a:xfrm>
            <a:off x="-12600" y="4432320"/>
            <a:ext cx="9285120" cy="2090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115640" y="1196640"/>
            <a:ext cx="69562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motes a culture of high perform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ghlights non-tolerance for underperform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vides a procedure for managing employee out of the busi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duces risk of Unfair Dismissal Claim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mployees are clear on what is expected of the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5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3:35:17Z</dcterms:created>
  <dc:creator>Maeve Caraher</dc:creator>
  <dc:description/>
  <dc:language>en-US</dc:language>
  <cp:lastModifiedBy>Ian Davis</cp:lastModifiedBy>
  <cp:lastPrinted>2013-03-20T08:51:54Z</cp:lastPrinted>
  <dcterms:modified xsi:type="dcterms:W3CDTF">2013-03-20T11:11:15Z</dcterms:modified>
  <cp:revision>26</cp:revision>
  <dc:subject/>
  <dc:title>BSc in Sports Management 3rd Year HRM Lecture 10:Workplace Disputes</dc:title>
</cp:coreProperties>
</file>